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BC7-0924-4C06-AAEA-E97C3576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B98-5658-4449-B934-95F0359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0B9-7B08-4067-BAA6-36AD0F59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F23-6DA5-45DD-B734-F516BC8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56A8-4B9E-47E4-B8A3-828C933C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748-824E-4EC0-ACC8-50C88B7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1E0-9ABB-4D8D-8A88-3041554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791-4B89-43B2-B12A-DCB4CFCE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B6A6-0527-44D8-BB16-54E40137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068-BDD3-4C62-A1CB-C2240EDE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535C-ED45-45FF-B093-8CB34A8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0B1-8EE9-40A1-AFCF-B680B97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E1F-D7FE-4FA1-88E5-20C132E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F6B-C6E5-4B08-9CEB-04A146B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EEE3-3E36-4F1A-9F1E-20D8315C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BBF-D71C-4615-B12A-818E0D46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06A-BEAE-4404-86F2-E38285AE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CA6-E667-4311-BC65-1B6B6FAD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E81-00D9-4882-A1E1-9A7A8741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04F-8017-48A0-BE20-502C7EE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474-00AB-4328-9A62-3DDC55A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057-A66E-4FD7-9228-5D3071B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551-A576-4C75-8A08-DD29A32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FE3-A638-4BF5-817D-DB516F7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7691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769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40040-F623-4203-96D4-F683ACD21F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1E943-8D40-4703-844E-8BCD76236793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120" y="3490200"/>
            <a:ext cx="2829960" cy="1690560"/>
            <a:chOff x="2661120" y="3490200"/>
            <a:chExt cx="2829960" cy="1690560"/>
          </a:xfrm>
        </p:grpSpPr>
        <p:sp>
          <p:nvSpPr>
            <p:cNvPr id="124" name=""/>
            <p:cNvSpPr/>
            <p:nvPr/>
          </p:nvSpPr>
          <p:spPr>
            <a:xfrm>
              <a:off x="3530520" y="34902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120" y="481248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2560" y="480780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rot="5400000">
              <a:off x="3023280" y="3799080"/>
              <a:ext cx="953280" cy="107352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 flipH="1" rot="16200000">
              <a:off x="4121640" y="3773160"/>
              <a:ext cx="948600" cy="111996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360" y="39898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560" y="398520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5680" y="4635360"/>
            <a:ext cx="2616120" cy="1688400"/>
            <a:chOff x="3955680" y="4635360"/>
            <a:chExt cx="2616120" cy="168840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5680" y="595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6760" y="5950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rot="5400000">
              <a:off x="4166280" y="4943160"/>
              <a:ext cx="953280" cy="107100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 flipH="1" rot="16200000">
              <a:off x="5263920" y="4916160"/>
              <a:ext cx="948600" cy="111960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040" y="51328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0840" y="512820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08160" y="3261960"/>
            <a:ext cx="1422360" cy="3733560"/>
          </a:xfrm>
          <a:prstGeom prst="ellipse">
            <a:avLst/>
          </a:prstGeom>
          <a:noFill/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;pos:/VB.*/} =&gt; any root 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expressions can be used to produce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0" indent="-565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lemma:/^{?!boy}.*$/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the combination of a positive and a negative trait, you can use () and the ==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{word:Paris} == !{ner:LOCATION}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has the text Paris without being 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/>
  <dcterms:modified xsi:type="dcterms:W3CDTF">2019-12-04T20:24:21Z</dcterms:modified>
  <cp:revision>59</cp:revision>
  <dc:subject/>
  <dc:title>Introduction to Tregex</dc:title>
</cp:coreProperties>
</file>